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7AE-AE13-4DC0-AAC6-F577FA2C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3F3-856E-46AC-81DD-2B8E9309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EF6-E54F-4D07-B0F3-516E49C6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FC0-1EE1-4EBB-800C-E74C523B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5E12-CE49-4D4F-9617-8AF45230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B507-46C3-47BD-8DD7-5EF06BB1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C341-9161-4618-9C83-F60E66A8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5075-8AD6-44F9-8779-401A47BC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B1A8-68C3-4E58-911D-970AB237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C68A-C134-4A03-B34B-2E4D32E6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FF58-D41D-4293-958D-8A4972B9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A12-5854-41E5-BFF8-EF693878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A5BB-FCAB-4C97-A96B-5F800FA5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25BC-5CA6-4774-997C-FD64835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FB30-437A-497A-AE44-7A101FE1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02B4-5A53-4687-9FB6-FD21C777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739E-F373-4707-BE1B-DCE82010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E63-7127-4F9F-AA64-E948189E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907-8C69-4DAC-9A21-D16A946C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4AB-34A4-4AA1-BEBB-6FED261E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4221-4C0D-4EB6-A710-EEB4E5E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E59-7D64-490E-9333-4C988D7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11C-C18B-4D4F-9658-8C07D16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1A8-9878-4183-B080-ACC8C3E7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10E1-F0D3-4825-8A77-3013582E245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19A9-8DDD-4264-BC2B-2577B48BF30A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330066"/>
                </a:solidFill>
                <a:latin typeface="Arial"/>
              </a:rPr>
              <a:t>Wynagrodzeni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100" spc="-1" strike="noStrike">
                <a:solidFill>
                  <a:srgbClr val="330066"/>
                </a:solidFill>
                <a:latin typeface="Arial"/>
              </a:rPr>
              <a:t>Płaca zasadnicza (stała)</a:t>
            </a:r>
            <a:endParaRPr b="1" lang="en-US" sz="4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o stałe wynagrodzenie wypłacane pracownikowi za powierzoną mu prac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kłada się z płacy zasadniczej, stałych dodatków do płacy zasadniczej (np. za pracę w godzinach nadliczbowych) i wynagrodzenia za czas nieprzepracowany (urlopy wypoczynkow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o wynagrodzenie pieniężne, bezpośredn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330066"/>
                </a:solidFill>
                <a:latin typeface="Arial"/>
              </a:rPr>
              <a:t>Wysokość płacy wynika z kryteriów wyceny stanowiska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akres odpowiedzialności pracownika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ziom wiedzy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dolności umysłow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miejętności interpersonaln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magany wysiłek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iekorzystne warunki pracy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iezbędne umiejętności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dział w wypracowywaniu zysku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kład w rozwój firmy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oświadczen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Prem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jest składnikiem wynagrodzenia często stosowanym w organizacj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o dodatkowy, zmienny składnik wynagrodze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zwala na ocenę jakości, bądź też ilości wykonanej p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jej przyznanie następuje po spełnieniu określonych warunków przez pracown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330066"/>
                </a:solidFill>
                <a:latin typeface="Arial"/>
              </a:rPr>
              <a:t>System premiowy wymaga określenia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odstaw przyznawania prem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Metod i kryteriów pomiaru efekt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posobu określania wysokości prem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arunków uzyskania premii, wymagań jakie pracownik musi spełniać aby ją uzyska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Zasad dotyczących tego, kto przyznaje prem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Premia regulaminow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 Polsce, zwłaszcza w firmach sektora publicznego, wypłaca się tzw. premie regulaminowe, to znaczy należne bez względu na efek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 prawodawstwie polskim premie mają charakter roszczeniowy, co oznacza, że pracownik, który premii nie otrzymał mimo spełnienia warunków uprawniających do niej, może jej dochodzić na drodze sądow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Nagr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ają charakter uznaniowy - nie są gwarantowane przez żadne regulam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Jeśli więc premia ma charakter uznaniowy, to bez względu na to, jak się ją nazywa, jest nagrodą. I odwrotnie, niektóre nagrody, takie jak tzw. nagroda jubileuszowa, faktycznie są premią, ponieważ mają charakter roszczeniowy: należą się każdemu, kto spełnia uprawniające do nich warun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100" spc="-1" strike="noStrike">
                <a:solidFill>
                  <a:srgbClr val="330066"/>
                </a:solidFill>
                <a:latin typeface="Arial"/>
              </a:rPr>
              <a:t>Prowizja</a:t>
            </a:r>
            <a:endParaRPr b="1" lang="en-US" sz="4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Ten składnik wynagrodzenia jest typowy dla pracowników sfery sprzedaży, gdyż uzależnia wysokość części, bądź całości (w rzadkich przypadkach) wynagrodzenia od wielkości sprzedaż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100" spc="-1" strike="noStrike">
                <a:solidFill>
                  <a:srgbClr val="330066"/>
                </a:solidFill>
                <a:latin typeface="Arial"/>
              </a:rPr>
              <a:t>Rodzaje prowizji</a:t>
            </a:r>
            <a:endParaRPr b="1" lang="en-US" sz="4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 wielkości sprzedaży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 zysku brutto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 sprzedaży ponad określony limit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d wypracowanego budżetu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określona kwota za jednostkę sprzedanego towaru (zróżnicowana dla różnych pozycji asortymentowych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Bodźce długoterminow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ą powiązane z efektami osiąganymi w okresie dłuższym niż rok. Są to głównie bodźce własnościowe (np. akcje i opcje na akcje), ale też udział w zyskach, plany oszczędnościowe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o inaczej długoterminowe wynagrodzenia ruchome nazywane też wynagrodzeniami odroczonymi ze względu na odroczony charakter wypł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gą mieć charakter własnościowy powiązany z efektami działalności firmy, finansowy, oszczędnościowy lub ubezpieczeni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330066"/>
                </a:solidFill>
                <a:latin typeface="Arial"/>
              </a:rPr>
              <a:t>Świadczenia dodatkowe (pozapłacowe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zywane również gratyfikacjami lub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perks)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 reguły mają charakter rzecz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echuje je duża różnorodnoś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Symbol zastępczy zawartości 3" descr="wynagrodzenia-rapor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000000"/>
                </a:solidFill>
                <a:latin typeface="Arial"/>
              </a:rPr>
              <a:t>Najczęściej wybierane </a:t>
            </a:r>
            <a:br>
              <a:rPr sz="3500"/>
            </a:br>
            <a:r>
              <a:rPr b="1" lang="pl-PL" sz="3500" spc="-1" strike="noStrike">
                <a:solidFill>
                  <a:srgbClr val="000000"/>
                </a:solidFill>
                <a:latin typeface="Arial"/>
              </a:rPr>
              <a:t>świadczenia w Pols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rywatna opieka medycz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Telefon komórkow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omoc w eduk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Ubezpieczenie na życ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Komputer do użytku w dom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Samochód służbow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złonkostwo w klubie sportowym/fitn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Bony towarow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ożyczki udzielane przez firmę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Dodatkowe dni wolne od pra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Rabat przy zakupie towarów fir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Dopłaty do posiłków/stołówk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Inne (ubezpieczenia, opcje na akc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Formy świadczeń pracowniczy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onifikowana sprzedaż produktów firmy, przedemerytalna pomoc praw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bezpieczenie zdrowo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kładowe systemy emerytalne, preferencyjne nabywanie akcji fi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nansowanie kosztów szkol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lisa na życie, zasiłek przedemerytalny dla rodziny pracow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Formy świadczeń menedżerskic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Samochód służbowy do celów prywatnych, doradztwo podatkow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Podwyższony standard usług medyczny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Odprawa emerytal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Fundusz reprezentacyjny, finansowanie kosztów kształcenia dziec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Ubezpieczenie na wypadek uprowadzenia, ubezpieczenie od wypadków lotniczy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2"/>
          <p:cNvGraphicFramePr/>
          <p:nvPr/>
        </p:nvGraphicFramePr>
        <p:xfrm>
          <a:off x="539640" y="189000"/>
          <a:ext cx="842508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9000"/>
                    <a:ext cx="8425080" cy="6264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6360" y="135000"/>
            <a:ext cx="712476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66"/>
                </a:solidFill>
                <a:latin typeface="Arial"/>
              </a:rPr>
              <a:t>Podstawowe funkcje płac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719360"/>
            <a:ext cx="777240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ochodowa (dochód pracownikó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kosztowa (koszty pracodawc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odźcowo - motywacyj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połeczna (kształtuje postawy społecz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"/>
          <p:cNvGrpSpPr/>
          <p:nvPr/>
        </p:nvGrpSpPr>
        <p:grpSpPr>
          <a:xfrm>
            <a:off x="457200" y="4419720"/>
            <a:ext cx="8686800" cy="1828800"/>
            <a:chOff x="457200" y="4419720"/>
            <a:chExt cx="8686800" cy="1828800"/>
          </a:xfrm>
        </p:grpSpPr>
        <p:pic>
          <p:nvPicPr>
            <p:cNvPr id="227" name="Object 5" descr=""/>
            <p:cNvPicPr/>
            <p:nvPr/>
          </p:nvPicPr>
          <p:blipFill>
            <a:blip r:embed="rId1"/>
            <a:stretch/>
          </p:blipFill>
          <p:spPr>
            <a:xfrm>
              <a:off x="457200" y="4648320"/>
              <a:ext cx="1828800" cy="15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6" descr="plus"/>
            <p:cNvPicPr/>
            <p:nvPr/>
          </p:nvPicPr>
          <p:blipFill>
            <a:blip r:embed="rId2"/>
            <a:stretch/>
          </p:blipFill>
          <p:spPr>
            <a:xfrm>
              <a:off x="2209680" y="4648320"/>
              <a:ext cx="183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7" descr="równasie"/>
            <p:cNvPicPr/>
            <p:nvPr/>
          </p:nvPicPr>
          <p:blipFill>
            <a:blip r:embed="rId3"/>
            <a:srcRect l="7863" t="0" r="7863" b="0"/>
            <a:stretch/>
          </p:blipFill>
          <p:spPr>
            <a:xfrm>
              <a:off x="5638680" y="4648320"/>
              <a:ext cx="16700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8" descr="biuro032"/>
            <p:cNvPicPr/>
            <p:nvPr/>
          </p:nvPicPr>
          <p:blipFill>
            <a:blip r:embed="rId4"/>
            <a:stretch/>
          </p:blipFill>
          <p:spPr>
            <a:xfrm>
              <a:off x="3809880" y="4800600"/>
              <a:ext cx="18288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9" descr="buzia"/>
            <p:cNvPicPr/>
            <p:nvPr/>
          </p:nvPicPr>
          <p:blipFill>
            <a:blip r:embed="rId5"/>
            <a:stretch/>
          </p:blipFill>
          <p:spPr>
            <a:xfrm>
              <a:off x="6851520" y="4419720"/>
              <a:ext cx="22924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Text Box 10"/>
          <p:cNvSpPr/>
          <p:nvPr/>
        </p:nvSpPr>
        <p:spPr>
          <a:xfrm>
            <a:off x="7848720" y="1371600"/>
            <a:ext cx="838080" cy="293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Funkcja dochodow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nagrodzenia stanowią dla pracownika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dochód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, który służy pokryciu kosztów utrzymania jego samego i osób pozostających na jego utrzyman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acownik jest zainteresowany maksymalizacją tego dochodu w relacji do ponoszonych przez siebie nakładów i starań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Funkcja kosztow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la pracodawcy wynagrodzenia są 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kosztem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acodawca jest zainteresowany maksymalizacją zwrotu z poniesionych kosztów, czyli maksymalizacją produktywności lub inaczej rozumianych efektó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8" name="Symbol zastępczy zawartości 3" descr="221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Koszty pra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nagrodzenia stanowią ważny, ale nie jedyny składnik kosztów pra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za wynagrodzeniami w skład kosztów pracy wchodzą między innymi koszty zatrudniania i zwolnień z pracy, koszty bezpieczeństwa i higieny pracy oraz obligatoryjne zewnętrzne obciążenia wynagrodzeń, takie jak składki ubezpieczeniowe, wpłaty na Zakładowy Fundusz Socjalny i na Fundusz Gwarantowanych Świadczeń Pracowniczyc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Funkcja motywacyjna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ens jej polega na kojarzeniu interesów pracowników i tego, kto motywu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Realizuje się ją poprzez przestrzeganie zasady: za równą płacę, równa pła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Histo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Badania dotyczące wynagrodzeń prowadzone są od przeszło 75 l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iele kontrowersji wzbudziły ogromne sumy pieniędzy, jakie menedżerowie otrzymali w latach 90-tych dzięki wykorzystaniu opcji na akc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Funkcja motywacyj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a cztery wymiary. Wynagrodzenia powinn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kłaniać ludzi do podjęcia pracy (przyciągać do firmy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kłaniać do trwania przy niej (zatrzymywać w firmie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budzać do osiągania niezmiennie wysokich efektów, a nawet do ich ciągłej poprawy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budzać pracowników do rozwoju swych kompetencji, co przyczyni się do rozwoju firmy i osiągania przez nią lepszych efektó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250920" y="333360"/>
          <a:ext cx="8569080" cy="5759640"/>
        </p:xfrm>
        <a:graphic>
          <a:graphicData uri="http://schemas.openxmlformats.org/drawingml/2006/table">
            <a:tbl>
              <a:tblPr/>
              <a:tblGrid>
                <a:gridCol w="2832120"/>
                <a:gridCol w="57369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kcj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sób (instrument) realizacj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yciąganie pracowników do pracy w organizacj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sadnicze stawki płac ustalane na podstawie wartościowania pracy i rynkowych przeglądów wynagrodzeń, stałe dodatki do płac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nagrodzenia ruchome zależne od efektów prac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Świadczenia dodatkow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rzymanie pracowników w organizacj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źce długoterminow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ział w zyskac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nagrodzenia kafeteryj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Świadczenia dodatkow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udzanie pracowników do osiągania dobrych efektów prac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styczne tabele płac oparte na szerokich przedziałach płac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nagrodzenie ruchome zależne od efektów prac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udzanie pracowników do ciągłego uczenia się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nagrodzenie oparte na wiedzy i umiejętnościac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nagrodzenie ruchome zależne od efektów prac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ourier New"/>
                        <a:buChar char="-"/>
                        <a:tabLst>
                          <a:tab algn="l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Świadczenia dodatkow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330066"/>
                </a:solidFill>
                <a:latin typeface="Arial"/>
              </a:rPr>
              <a:t>Wielkość i zróżnicowanie wynagrodzeń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ielkość i zróżnicowanie wynagrodzeń poszczególnych pracowników zależy od różnych czynni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ielkoś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rzede wszystkim jest ograniczana z jednej strony przez wynagrodzenie minimalne, z drugiej zaś przez możliwości i sytuację finansową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Zróżnicowanie wynagrodzeń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Głównymi determinantami </a:t>
            </a:r>
            <a:r>
              <a:rPr b="1" lang="pl-PL" sz="2900" spc="-1" strike="noStrike">
                <a:solidFill>
                  <a:srgbClr val="000000"/>
                </a:solidFill>
                <a:latin typeface="Arial"/>
              </a:rPr>
              <a:t>zróżnicowania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wynagrodzeń indywidualnych w tak określonym przedziale są </a:t>
            </a:r>
            <a:r>
              <a:rPr b="1" lang="pl-PL" sz="2900" spc="-1" strike="noStrike">
                <a:solidFill>
                  <a:srgbClr val="000000"/>
                </a:solidFill>
                <a:latin typeface="Arial"/>
              </a:rPr>
              <a:t>jakość (trudność)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pracy, czyli wymagania, jakie dana praca stawia swojemu wykonawcy oraz </a:t>
            </a:r>
            <a:r>
              <a:rPr b="1" lang="pl-PL" sz="2900" spc="-1" strike="noStrike">
                <a:solidFill>
                  <a:srgbClr val="000000"/>
                </a:solidFill>
                <a:latin typeface="Arial"/>
              </a:rPr>
              <a:t>ilość (efekty)</a:t>
            </a: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pracy, czyli osiągnięcia w zakresie wykonywanej pracy.</a:t>
            </a:r>
            <a:br>
              <a:rPr sz="2900"/>
            </a:br>
            <a:r>
              <a:rPr b="0" lang="pl-PL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1" name="Symbol zastępczy zawartości 3" descr="wynagrodzenia_w_IT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Symbol zastępczy zawartości 3" descr="nizsza-pensj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330066"/>
                </a:solidFill>
                <a:latin typeface="Arial"/>
              </a:rPr>
              <a:t>Badania wynagrodzeń uwzględniają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eterminanty wynagrodzeń związane z otoczeni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eterminanty wynagrodzeń związane z organizacj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eterminanty wynagrodzeń związane ze stanowiskiem p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Determinanty wynagrodzeń związane z płcią i ras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ozostałe determinanty wynagrodzeń związane z jednostką / osob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500" spc="-1" strike="noStrike">
                <a:solidFill>
                  <a:srgbClr val="330066"/>
                </a:solidFill>
                <a:latin typeface="Arial"/>
              </a:rPr>
              <a:t>Badania wynagrodzeń uwzględniają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sychologia wynagrodze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Sprawiedliwość płacow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Efekty indywidual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Efektywność organizac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Świadczenia dodatk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nagrodzenia menedżeró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nagrodzenia międzynarod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Definicje wynagrodzeń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nagrodzenie za pracę może być ujmowane jako zapłata za określone czynności w określonym czasie, wykonywane na powierzonym stanowisku pracy zgodnie z przyjętym przez pracownika zakresem obowiązkó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nagrodzenie powinno odpowiadać rodzajowi wykonywanej pracy, kwalifikacjom niezbędnym na tym stanowisku, a także powinno uwzględniać ilość i jakość p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330066"/>
                </a:solidFill>
                <a:latin typeface="Arial"/>
              </a:rPr>
              <a:t>Definicje wynagrodzeń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nagrodzenie to całkowity dochód pracownika wynikający z podjęcia i wykonania określonej pracy, który można podzielić 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ynagrodzenie gotówkowe (płaca zasadnicza i relatywne w stosunku do niej składniki ruchome zależne od treści i efektów pracy, dodatki, składniki wynikające z przepisów praw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kładniki materialne – niegotówkowe (usługi, świadczenia, finansowe narzędzia własnościowe, ubezpieczenia, programy pracownicz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66"/>
                </a:solidFill>
                <a:latin typeface="Arial"/>
              </a:rPr>
              <a:t>Podział składników wynagrodzeń według GU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wynagrodzenia zasadnic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emie i nagr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odatki za staż p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opłaty za godziny nadliczb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odatek za url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agrody jubileuszow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dodatek emerytal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333360"/>
            <a:ext cx="9143640" cy="6190920"/>
            <a:chOff x="0" y="333360"/>
            <a:chExt cx="9143640" cy="6190920"/>
          </a:xfrm>
        </p:grpSpPr>
        <p:sp>
          <p:nvSpPr>
            <p:cNvPr id="166" name="Text Box 3"/>
            <p:cNvSpPr/>
            <p:nvPr/>
          </p:nvSpPr>
          <p:spPr>
            <a:xfrm>
              <a:off x="2398320" y="333360"/>
              <a:ext cx="4496760" cy="68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Dochody z pracy – wynagrodzenie całkow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"/>
            <p:cNvSpPr/>
            <p:nvPr/>
          </p:nvSpPr>
          <p:spPr>
            <a:xfrm>
              <a:off x="749160" y="1938240"/>
              <a:ext cx="3299040" cy="68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Wynagrodzenia bezpośredni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5246280" y="1938240"/>
              <a:ext cx="3147840" cy="68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Wynagrodzenia pośredni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0" y="3772800"/>
              <a:ext cx="1798560" cy="11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Premie krótkookresow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1949760" y="3772800"/>
              <a:ext cx="1798560" cy="11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Premi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długookresow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"/>
            <p:cNvSpPr/>
            <p:nvPr/>
          </p:nvSpPr>
          <p:spPr>
            <a:xfrm>
              <a:off x="3897360" y="3772800"/>
              <a:ext cx="1798560" cy="11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Wynagrodzenia zasadnicz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9"/>
            <p:cNvSpPr/>
            <p:nvPr/>
          </p:nvSpPr>
          <p:spPr>
            <a:xfrm>
              <a:off x="5847120" y="3772800"/>
              <a:ext cx="1499760" cy="11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Świadczeni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pracownicz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7494840" y="3772800"/>
              <a:ext cx="1648800" cy="11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Świadczenia menedżerski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1049040" y="5836680"/>
              <a:ext cx="2699280" cy="68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Wynagrodzenie zmien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5395320" y="5836680"/>
              <a:ext cx="2549160" cy="687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500" spc="-1" strike="noStrike">
                  <a:solidFill>
                    <a:srgbClr val="000000"/>
                  </a:solidFill>
                  <a:latin typeface="Arial"/>
                </a:rPr>
                <a:t>Wynagrodzenie stał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>
              <a:off x="4646880" y="1020960"/>
              <a:ext cx="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>
              <a:off x="2698200" y="1479600"/>
              <a:ext cx="38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2698200" y="1479600"/>
              <a:ext cx="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6"/>
            <p:cNvSpPr/>
            <p:nvPr/>
          </p:nvSpPr>
          <p:spPr>
            <a:xfrm>
              <a:off x="6595560" y="1479600"/>
              <a:ext cx="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7"/>
            <p:cNvSpPr/>
            <p:nvPr/>
          </p:nvSpPr>
          <p:spPr>
            <a:xfrm>
              <a:off x="2698200" y="2626200"/>
              <a:ext cx="0" cy="11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>
              <a:off x="6445800" y="4919400"/>
              <a:ext cx="1080" cy="91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9"/>
            <p:cNvSpPr/>
            <p:nvPr/>
          </p:nvSpPr>
          <p:spPr>
            <a:xfrm>
              <a:off x="1348920" y="3084840"/>
              <a:ext cx="34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>
              <a:off x="1348920" y="308484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1"/>
            <p:cNvSpPr/>
            <p:nvPr/>
          </p:nvSpPr>
          <p:spPr>
            <a:xfrm>
              <a:off x="4796640" y="308484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>
              <a:off x="6595560" y="2626200"/>
              <a:ext cx="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6445800" y="3084840"/>
              <a:ext cx="164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4"/>
            <p:cNvSpPr/>
            <p:nvPr/>
          </p:nvSpPr>
          <p:spPr>
            <a:xfrm>
              <a:off x="6445800" y="308484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5"/>
            <p:cNvSpPr/>
            <p:nvPr/>
          </p:nvSpPr>
          <p:spPr>
            <a:xfrm>
              <a:off x="8094600" y="3084840"/>
              <a:ext cx="0" cy="68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6"/>
            <p:cNvSpPr/>
            <p:nvPr/>
          </p:nvSpPr>
          <p:spPr>
            <a:xfrm>
              <a:off x="1348920" y="4919400"/>
              <a:ext cx="108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2698200" y="4919400"/>
              <a:ext cx="108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>
              <a:off x="1348920" y="5378040"/>
              <a:ext cx="134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9"/>
            <p:cNvSpPr/>
            <p:nvPr/>
          </p:nvSpPr>
          <p:spPr>
            <a:xfrm>
              <a:off x="2098440" y="5378040"/>
              <a:ext cx="108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0"/>
            <p:cNvSpPr/>
            <p:nvPr/>
          </p:nvSpPr>
          <p:spPr>
            <a:xfrm>
              <a:off x="4796640" y="4919400"/>
              <a:ext cx="108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1"/>
            <p:cNvSpPr/>
            <p:nvPr/>
          </p:nvSpPr>
          <p:spPr>
            <a:xfrm>
              <a:off x="8094600" y="4919400"/>
              <a:ext cx="1080" cy="45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2"/>
            <p:cNvSpPr/>
            <p:nvPr/>
          </p:nvSpPr>
          <p:spPr>
            <a:xfrm>
              <a:off x="4796640" y="5378040"/>
              <a:ext cx="3297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20:09:41Z</dcterms:created>
  <dc:creator>gulka</dc:creator>
  <dc:description/>
  <dc:language>en-US</dc:language>
  <cp:lastModifiedBy>JAREK</cp:lastModifiedBy>
  <dcterms:modified xsi:type="dcterms:W3CDTF">2020-06-18T15:56:04Z</dcterms:modified>
  <cp:revision>19</cp:revision>
  <dc:subject/>
  <dc:title>Wynagrodzenia</dc:title>
</cp:coreProperties>
</file>